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7.pct" ContentType="image/x-pict"/>
  <Override PartName="/ppt/media/image14.jpeg" ContentType="image/jpeg"/>
  <Override PartName="/ppt/media/image16.pct" ContentType="image/x-pict"/>
  <Override PartName="/ppt/media/image1.pct" ContentType="image/x-pict"/>
  <Override PartName="/ppt/media/image4.png" ContentType="image/png"/>
  <Override PartName="/ppt/media/image3.png" ContentType="image/png"/>
  <Override PartName="/ppt/media/image7.png" ContentType="image/png"/>
  <Override PartName="/ppt/media/image18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15.jpeg" ContentType="image/jpe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91B-A818-4034-9BC9-9928637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88A-F2B0-4ED6-851C-7591232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539-702D-4358-8FAF-958ECE4E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465-90C9-4C06-AD73-08E18475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30D-A845-4966-BD8A-205B0E5E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42F-F795-489F-9BB3-C79C20E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ABF-BB52-4A4D-AE07-376AB1FB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30-345E-4928-996D-C2E62F3D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DE8-4D17-45FE-AE2A-7A8457D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30A-7C58-403A-A4EC-4C88C56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DDD-765B-4C67-A371-3DD1B82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9D3-84AC-4D75-8DAB-5AF6C3F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D18-4646-4109-870F-2EB0A388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399800" t="1700912" r="69661" b="84802"/>
          <a:stretch/>
        </p:blipFill>
        <p:spPr>
          <a:xfrm rot="2405400">
            <a:off x="7083000" y="503532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8195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riting is the only thing tha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en I do i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 don't feel I should be doing anything els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Gloria Steinem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40840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1295280"/>
            <a:ext cx="240840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338723" t="193617" r="2215569" b="1850152"/>
          <a:stretch/>
        </p:blipFill>
        <p:spPr>
          <a:xfrm rot="715200">
            <a:off x="151920" y="7308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Every writer I know has trouble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Joseph H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ime to a writer is like play dough in the hands of a toddler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Barry La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437525"/>
          <a:stretch/>
        </p:blipFill>
        <p:spPr>
          <a:xfrm>
            <a:off x="4343400" y="685800"/>
            <a:ext cx="4229280" cy="5562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00240" y="13712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synonym is a word you use when you can’t spell the other on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Baltasar Graci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661475" t="0" r="624863" b="0"/>
          <a:stretch/>
        </p:blipFill>
        <p:spPr>
          <a:xfrm>
            <a:off x="76320" y="219240"/>
            <a:ext cx="4384440" cy="6333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f there is a book you really want to read but you can’t find i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it down and write it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Toni Morris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272213" t="714183" r="773877" b="899038"/>
          <a:stretch/>
        </p:blipFill>
        <p:spPr>
          <a:xfrm>
            <a:off x="3200400" y="457200"/>
            <a:ext cx="3200400" cy="2860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7339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n writing…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I try to leave out the parts that people skip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Elmore Leon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’m not a very good writer, but I’m an excellent rewriter.”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James Miche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8098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Don’t tell me the moon is shining; show me the glint of light on broken glas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Anton Chekho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Putting pen to paper encourages pause for thought making us think more deeply even if our writing is thrown away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Norbet Plat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04812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he difference between the right word and the almost right word is the difference between lightning and a lightning bu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Mark Tw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76720" y="4572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When something can be read without effort, great effort has gone into its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Enrique Jardiel Ponc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taphors have a way of holding the most truth in the least spac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Orson Scott C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397006" t="129179" r="98802" b="1850152"/>
          <a:stretch/>
        </p:blipFill>
        <p:spPr>
          <a:xfrm rot="20748600">
            <a:off x="533160" y="685440"/>
            <a:ext cx="2666880" cy="133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341517" t="1700912" r="1085828" b="84802"/>
          <a:stretch/>
        </p:blipFill>
        <p:spPr>
          <a:xfrm rot="20664600">
            <a:off x="2285640" y="4343400"/>
            <a:ext cx="1465200" cy="15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325549" t="1700912" r="2186427" b="84802"/>
          <a:stretch/>
        </p:blipFill>
        <p:spPr>
          <a:xfrm rot="1661400">
            <a:off x="6629040" y="304920"/>
            <a:ext cx="1808280" cy="203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123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You write to communicate what’s burning inside you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You edit to let the fire show through the smok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Author Unknow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203184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599170" t="0" r="1162241" b="0"/>
          <a:stretch/>
        </p:blipFill>
        <p:spPr>
          <a:xfrm>
            <a:off x="3505320" y="609480"/>
            <a:ext cx="2022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419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 write to correct life’s unfairnes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Verandah Porch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5599" t="0" r="0" b="0"/>
          <a:stretch/>
        </p:blipFill>
        <p:spPr>
          <a:xfrm>
            <a:off x="1828800" y="609480"/>
            <a:ext cx="5359320" cy="4152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writer is someone who can make a riddle out of an answer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Karl Kra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338723" t="193617" r="2215569" b="1850152"/>
          <a:stretch/>
        </p:blipFill>
        <p:spPr>
          <a:xfrm rot="715200">
            <a:off x="151920" y="7308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397006" t="129179" r="98802" b="1850152"/>
          <a:stretch/>
        </p:blipFill>
        <p:spPr>
          <a:xfrm>
            <a:off x="5486400" y="502596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341517" t="1700912" r="1085828" b="84802"/>
          <a:stretch/>
        </p:blipFill>
        <p:spPr>
          <a:xfrm rot="20664600">
            <a:off x="456840" y="45684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325549" t="1700912" r="2186427" b="84802"/>
          <a:stretch/>
        </p:blipFill>
        <p:spPr>
          <a:xfrm rot="1661400">
            <a:off x="6858000" y="378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rcRect l="2399800" t="1700912" r="69661" b="84802"/>
          <a:stretch/>
        </p:blipFill>
        <p:spPr>
          <a:xfrm rot="827400">
            <a:off x="3123720" y="7621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Memory believ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before knowing remembers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William Faulk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Easy reading is damn hard writing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Nathaniel Hawthor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11480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Inch by inch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he words surprised m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W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397480" cy="40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57200"/>
            <a:ext cx="5397480" cy="405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“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To me the greatest pleasure of writing is not what it’s about, but the inner music the words make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Truman Capote, 196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5562720" cy="393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3040" y="24379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When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I write,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ideas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nder around in my mind looking for something to do.”</a:t>
            </a:r>
            <a:br>
              <a:rPr sz="36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~S.E. Hint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34:31Z</dcterms:created>
  <dc:creator>Pam Krambeck</dc:creator>
  <dc:description/>
  <dc:language>en-US</dc:language>
  <cp:lastModifiedBy>pdd</cp:lastModifiedBy>
  <dcterms:modified xsi:type="dcterms:W3CDTF">2007-09-05T20:32:45Z</dcterms:modified>
  <cp:revision>4</cp:revision>
  <dc:subject/>
  <dc:title>PowerPoint Presentation</dc:title>
</cp:coreProperties>
</file>